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369F-B838-4672-9893-4DCC7319B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E196-4345-4854-A539-088006C3E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1C6A-BB18-4676-A119-C56DB1CC7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2C49-CA58-4DE1-BDC0-7419E34F7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00BA-7D2F-4A51-8CDA-A18F655ECA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F856-8F30-4C12-83B6-B1B401FE4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24F5-32CA-4EE1-935A-163A4D76F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F20A-B282-4CC9-B309-B0AAFC901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2C26-1E30-4E54-B577-873055C6B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D225-DB25-4CBE-ACDD-EF88B897D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3B33-AC42-4A99-875B-EC4D59D5D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75AE-2593-408B-8504-E6A053F9A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133-0774-4780-BF4E-89D8B4AC0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ACC-46B4-4F67-AD25-45F327AE20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 – August 18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 Work with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focus on understanding the multiplicative relations to compare and predict as well as unitizing concepts in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consider guidelines when providing effective 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the importance of effective feedback on student achie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950C-350E-4A55-9A3C-96CAA59CC9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44D3-919A-4727-82F3-69C7EF909F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p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Proble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Cookie Problem 7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 boxes of cookies cost $10.  How much should18 boxes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Keepin’ 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student council collects aluminum pop tabs to raise money to purchase a wheelchair.  A company buys the pop tabs for $0.88 per kil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ow your 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algebraic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 using the mathematical processes as your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ther tables to examine the type of feedback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athematical process was the l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similarities to the feedback you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1 change you will make when providing feedback to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the importance of developing guidelines for providing effective feed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flect on how effective feedback impacts student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CDSB</cp:lastModifiedBy>
  <dcterms:modified xsi:type="dcterms:W3CDTF">2011-08-04T13:30:31Z</dcterms:modified>
  <cp:revision>5</cp:revision>
  <dc:subject/>
  <dc:title>&lt;Title&gt;</dc:title>
</cp:coreProperties>
</file>